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EEA4-D017-4B2B-B2B4-1BB7F3A896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323B-E4A5-4FA2-8CFC-68B05E89AA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CFDF-8D16-424D-81FC-E07F0CD5B4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A36A-D1F7-4675-A9EB-F727A6C80D3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8B1-FA24-4F10-BBAF-48A7B16DD36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4CC6-226B-4708-AEB3-3CDB49C055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6B56-3208-4D98-8ED7-F8D2E2A882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8909-EE75-44CC-B0BA-01F487A3E7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1F5-5C1B-42F8-B732-DEFA9D30508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A8F-219D-4861-A705-CB726D3049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E69-792B-4E38-8C04-A993E780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AB7-6E9D-49AF-91D6-7C692381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499-2FAD-4E83-976B-8CB481E8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660-69D2-49E5-8B3C-E9A4EFE9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0F7-66CC-4DCB-81A6-BBB93E1F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C7F-90B3-4D7C-BD46-172723D3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FBD-C42F-41B5-B6AD-1A24CE6F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05F-F6E6-4672-9A26-E5BF087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18E-8D64-4C2B-9D7F-B083C93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DD4-8306-4C57-B2E3-F0061E5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93B-3396-42E8-859D-7DEADF6F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733-9673-496C-861E-84644D90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A6DD-1B2A-4A17-93CF-6060552C91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Zalety umowy o pracę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189000" y="1085760"/>
            <a:ext cx="849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ytuł 1"/>
          <p:cNvSpPr/>
          <p:nvPr/>
        </p:nvSpPr>
        <p:spPr>
          <a:xfrm>
            <a:off x="700200" y="1085760"/>
            <a:ext cx="77724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95280" y="1849320"/>
            <a:ext cx="893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ownik zatrudniony na umowę o pracę ma prawo 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płatnego urlop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urlopu macierzyński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urlopu wychowawcz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wynagrodzenia i zasiłku chorobow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dodatku do pracy w szkodliwych warunkach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minimalnego wynagrodz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prowadzenie do rynku prac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ezrobocie, wynagrodzenia oraz formy zatrudn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Rynek pracy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ytuł 1"/>
          <p:cNvSpPr/>
          <p:nvPr/>
        </p:nvSpPr>
        <p:spPr>
          <a:xfrm>
            <a:off x="250920" y="1268280"/>
            <a:ext cx="8740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rynku pracy „spotykają się” poszukujący pracy oraz ci, którzy pracę mogą zaoferowa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oby poszukujące pracy tworzą podaż na rynku pracy, natomiast przedsiębiorstwa oferujące pracę kreują na nim popy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76960" y="4292640"/>
            <a:ext cx="2867040" cy="1800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50920" y="4169880"/>
            <a:ext cx="602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Arial"/>
              </a:rPr>
              <a:t>Jakie są Wasze doświadczenia z rynkiem prac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Bezrobocie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ytuł 1"/>
          <p:cNvSpPr/>
          <p:nvPr/>
        </p:nvSpPr>
        <p:spPr>
          <a:xfrm>
            <a:off x="168120" y="1700280"/>
            <a:ext cx="88376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  <a:ea typeface="Arial"/>
              </a:rPr>
              <a:t>Zjawisko polegające na tym, że część społeczeństwa, która jest zdolna do pracy i chce ją podjąć, nie znajduje zatrudnieni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  <a:ea typeface="Arial"/>
              </a:rPr>
              <a:t>Sytuacja taka ma miejsce kiedy podaż pracy przewyższa popy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2934000" cy="1873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069920" y="4451400"/>
            <a:ext cx="429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  <a:ea typeface="Arial"/>
              </a:rPr>
              <a:t>Czym dla Was jest bezroboci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Rodzaje i przyczyny bezrobocia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916280"/>
          <a:ext cx="8785440" cy="39780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ykcyjn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jest naturalnym zjawiskiem występującym na rynku pracy związanym z przerwami w zatrudnieniu z powodu poszukiwania innej pracy lub zmianą miejsca zamieszkan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iczne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zastępowanie pracy ludzkiej pracą urządzeń techniczny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kturalne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sytuacja kiedy osoby bezrobotne nie spełniają oczekiwań pracodawców pod względem umiejętności i wiedz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4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iunkturalne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powstaje w momencie, kiedy gospodarka znajduje się w słabszej kondycji niż przeciętni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zonow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związane z porami roku. Zmniejszenie produkcji w  niektórych sektorach występuje m.in. w rolnictwie, budownictwie, turysty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903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Wynagrodzenia – płaca minimalna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ytuł 1"/>
          <p:cNvSpPr/>
          <p:nvPr/>
        </p:nvSpPr>
        <p:spPr>
          <a:xfrm>
            <a:off x="250920" y="1706400"/>
            <a:ext cx="84978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łaca minimaln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- Jest to minimalne wynagrodzenie (brutto) jakie pracownik musi otrzymać za wykonywaną prace w pełnym wymiarze godzin będąc zatrudnionym na umowę o 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wota płacy minimalnej rośnie rok do roku. Jest ona ustalana przez Prezesa Rady Ministrów, po wcześniejszych konsultacjach społecz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le wynosi tegoroczna płaca minimal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1706400"/>
            <a:ext cx="8497800" cy="1793880"/>
          </a:xfrm>
          <a:prstGeom prst="rect">
            <a:avLst/>
          </a:prstGeom>
          <a:solidFill>
            <a:srgbClr val="4f81b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81440" y="259920"/>
            <a:ext cx="9325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Wynagrodzenie – punkt widzenia pracownika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3600" y="1311120"/>
          <a:ext cx="5846760" cy="4754880"/>
        </p:xfrm>
        <a:graphic>
          <a:graphicData uri="http://schemas.openxmlformats.org/drawingml/2006/table">
            <a:tbl>
              <a:tblPr/>
              <a:tblGrid>
                <a:gridCol w="2894040"/>
                <a:gridCol w="2952720"/>
              </a:tblGrid>
              <a:tr h="393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łaca Brut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zpieczenie emerytal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9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zpieczenie rent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9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zpieczenie chorob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zpieczenie zdrowot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6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liczka na podatek od osób fizycz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9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aca Net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9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0" name="TextBox 3"/>
          <p:cNvSpPr/>
          <p:nvPr/>
        </p:nvSpPr>
        <p:spPr>
          <a:xfrm>
            <a:off x="6372360" y="1449360"/>
            <a:ext cx="277164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030a0"/>
                </a:solidFill>
                <a:latin typeface="Calibri"/>
              </a:rPr>
              <a:t>Czemu tak mało skoro szef mi mówi, że go kosztuję ponad dwa tysią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5"/>
          <p:cNvCxnSpPr/>
          <p:nvPr/>
        </p:nvCxnSpPr>
        <p:spPr>
          <a:xfrm flipH="1">
            <a:off x="5724360" y="5661000"/>
            <a:ext cx="648360" cy="202320"/>
          </a:xfrm>
          <a:prstGeom prst="straightConnector1">
            <a:avLst/>
          </a:prstGeom>
          <a:ln w="28440">
            <a:solidFill>
              <a:srgbClr val="7030a0"/>
            </a:solidFill>
            <a:prstDash val="sysDash"/>
            <a:miter/>
            <a:tailEnd len="med" type="triangle" w="med"/>
          </a:ln>
        </p:spPr>
      </p:cxnSp>
      <p:sp>
        <p:nvSpPr>
          <p:cNvPr id="72" name="Prostokąt 4"/>
          <p:cNvSpPr/>
          <p:nvPr/>
        </p:nvSpPr>
        <p:spPr>
          <a:xfrm>
            <a:off x="2065320" y="6438960"/>
            <a:ext cx="5244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pit.pl/skladka-wypadkowa-13117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1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Wynagrodzenie – punkt widzenia pracodawcy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4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3600" y="1311120"/>
          <a:ext cx="5486400" cy="3562560"/>
        </p:xfrm>
        <a:graphic>
          <a:graphicData uri="http://schemas.openxmlformats.org/drawingml/2006/table">
            <a:tbl>
              <a:tblPr/>
              <a:tblGrid>
                <a:gridCol w="2533680"/>
                <a:gridCol w="1368360"/>
                <a:gridCol w="1584360"/>
              </a:tblGrid>
              <a:tr h="3351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łaca Brutto pracown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zpieczenie emerytalne składka pracodaw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*9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zpieczenie rentowa składka pracodaw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*6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zpieczenie wypadk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*1,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usz pr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*2,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usz Gwarantowanych Świadczeń Pracownicz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0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a kosztów pracodaw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6" name="TextBox 6"/>
          <p:cNvSpPr/>
          <p:nvPr/>
        </p:nvSpPr>
        <p:spPr>
          <a:xfrm>
            <a:off x="5796000" y="1434960"/>
            <a:ext cx="307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łaca netto pracownika stanowi zaledwie 60% kosztów bezpośrednich jego zatrudnien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osunek ten będzie się nieznacznie różnił w zależności od kwoty brut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rostokąt 4"/>
          <p:cNvSpPr/>
          <p:nvPr/>
        </p:nvSpPr>
        <p:spPr>
          <a:xfrm>
            <a:off x="257040" y="5452920"/>
            <a:ext cx="492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Źródło: http://www.mpips.gov.pl/ubezpieczenia-spoleczne/ubezpieczenie-emerytalne/skladka-na-ubezpieczenie-emerytalne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D:\Data\awinniczuk\AppData\Local\Microsoft\Windows\Temporary Internet Files\Content.IE5\4VQMB90G\dglxasset[1].aspx"/>
          <p:cNvPicPr/>
          <p:nvPr/>
        </p:nvPicPr>
        <p:blipFill>
          <a:blip r:embed="rId1"/>
          <a:stretch/>
        </p:blipFill>
        <p:spPr>
          <a:xfrm>
            <a:off x="6227640" y="3789360"/>
            <a:ext cx="18288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Formy zatrudnienia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Tytuł 1"/>
          <p:cNvSpPr/>
          <p:nvPr/>
        </p:nvSpPr>
        <p:spPr>
          <a:xfrm>
            <a:off x="189000" y="1085760"/>
            <a:ext cx="849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ytuł 1"/>
          <p:cNvSpPr/>
          <p:nvPr/>
        </p:nvSpPr>
        <p:spPr>
          <a:xfrm>
            <a:off x="700200" y="1085760"/>
            <a:ext cx="77724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329080" y="1469880"/>
            <a:ext cx="38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46c0a"/>
                </a:solidFill>
                <a:latin typeface="Calibri"/>
              </a:rPr>
              <a:t>Zastanówcie się jakie zalety</a:t>
            </a:r>
            <a:br>
              <a:rPr sz="2400"/>
            </a:br>
            <a:r>
              <a:rPr b="0" lang="pl-PL" sz="2400" spc="-1" strike="noStrike">
                <a:solidFill>
                  <a:srgbClr val="e46c0a"/>
                </a:solidFill>
                <a:latin typeface="Calibri"/>
              </a:rPr>
              <a:t> i wady ma każda z um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292720" y="2554200"/>
            <a:ext cx="38512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70c0"/>
                </a:solidFill>
                <a:latin typeface="Calibri"/>
                <a:ea typeface="Arial"/>
              </a:rPr>
              <a:t>Pamiętajci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Każdy pracownik może mieć inny punkt wid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Diagram 6" descr=""/>
          <p:cNvPicPr/>
          <p:nvPr/>
        </p:nvPicPr>
        <p:blipFill>
          <a:blip r:embed="rId1"/>
          <a:stretch/>
        </p:blipFill>
        <p:spPr>
          <a:xfrm>
            <a:off x="-55440" y="1341360"/>
            <a:ext cx="5408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35:57Z</dcterms:modified>
  <cp:revision>92</cp:revision>
  <dc:subject/>
  <dc:title>Slajd 1</dc:title>
</cp:coreProperties>
</file>